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77423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67896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45376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522396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67896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45376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45376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22396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522396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67896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45376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45376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45376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522396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522396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522396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67896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45376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67896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45376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67896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45376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45376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67896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67896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67896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45376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45376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522396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67896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45376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45376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522396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67896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45376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45376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22396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2738520" y="542880"/>
            <a:ext cx="1380960" cy="1380960"/>
          </a:xfrm>
          <a:prstGeom prst="rect">
            <a:avLst/>
          </a:prstGeom>
          <a:ln w="0">
            <a:noFill/>
          </a:ln>
        </p:spPr>
      </p:pic>
      <p:sp>
        <p:nvSpPr>
          <p:cNvPr id="37" name=""/>
          <p:cNvSpPr/>
          <p:nvPr/>
        </p:nvSpPr>
        <p:spPr>
          <a:xfrm>
            <a:off x="3429000" y="580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3429000" y="3743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828800" y="4886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4114800" y="671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114800" y="8543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7400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668600" y="7140600"/>
            <a:ext cx="1226880" cy="98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3743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118040" y="3495600"/>
            <a:ext cx="104760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1676520" y="3484440"/>
            <a:ext cx="1063440" cy="849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33880" y="5450040"/>
            <a:ext cx="1066680" cy="85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6029280"/>
            <a:ext cx="1371600" cy="1371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2371680"/>
            <a:ext cx="1371600" cy="1371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542880"/>
            <a:ext cx="137160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371680"/>
            <a:ext cx="1371600" cy="1371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200480"/>
            <a:ext cx="1371600" cy="1371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371680"/>
            <a:ext cx="1371600" cy="1371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7858080"/>
            <a:ext cx="1371600" cy="1371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7858080"/>
            <a:ext cx="1371600" cy="1371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7858080"/>
            <a:ext cx="1371600" cy="1371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971880"/>
            <a:ext cx="182880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160" y="374760"/>
            <a:ext cx="2317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MP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92360" y="1666800"/>
            <a:ext cx="1190520" cy="9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962520" y="1657440"/>
            <a:ext cx="1218960" cy="973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29000" y="1914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6029280"/>
            <a:ext cx="1371600" cy="1371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8086680"/>
            <a:ext cx="939960" cy="920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029200" y="4176720"/>
            <a:ext cx="1390680" cy="1424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29200" y="4200480"/>
            <a:ext cx="137160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4886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5572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3743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6200" y="7953480"/>
            <a:ext cx="1003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CH-WO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732040" y="6272280"/>
            <a:ext cx="13939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IGHT’S APPRO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1 C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draw a Card if there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ready one in this spac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18040" y="6272280"/>
            <a:ext cx="13939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T TR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1 C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draw a Card if there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ready one in this spac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18040" y="2614680"/>
            <a:ext cx="13939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MPLED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1 C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draw a Card if there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ready one in this spac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32040" y="2614680"/>
            <a:ext cx="13939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N P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1 C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draw a Card if there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ready one in this spac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6040" y="2614680"/>
            <a:ext cx="13939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R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1 C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draw a Card if there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ready one in this spac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46040" y="4443480"/>
            <a:ext cx="13939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 COR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1 C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draw a Card if there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ready one in this spac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17840" y="4443480"/>
            <a:ext cx="18241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2 C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re are already Cards in this spac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only enough to bring the total to 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52800" y="585720"/>
            <a:ext cx="754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1 C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81680" y="8101080"/>
            <a:ext cx="1467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SURE HO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l 1 Di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Attacked by a Guard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 8.   2-5 = Find 3 G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= You find some spoil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. Take any 1 Objec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Purch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k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981160" y="8058240"/>
            <a:ext cx="905040" cy="981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889360" y="7981920"/>
            <a:ext cx="107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KNIGHT’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8120" y="8982000"/>
            <a:ext cx="760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ILL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0" y="5662440"/>
            <a:ext cx="2583000" cy="21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CH-WO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ay roll 1 Die if you wis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Her magic goes awry and costs you 1 Lif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3 = Her magic fail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6 = Her magic heals you 1 Lif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KNIGHT’S PAVILL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ust roll 1 Di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3 = The Black Knight is in his pavillion. He takes 1 Lif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s all of your Objects in the Treasure Hoard, captu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Followers (shuffle them into the Black Kn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k), and then puts you in the Stockad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6 = The pavillion is empt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13360" y="4672080"/>
            <a:ext cx="754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CKA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251240" y="1319040"/>
            <a:ext cx="252108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A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ockade is guarded by a Monsterous Serpent. If yo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 Craft of 5 or more you can evade the Serpent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e the Stockade on your next turn. If you do not ha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raft of 5 or more you must chance a daring ru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 the Serpent as it sleeps. Roll 1 die - 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oll of 5 or 6 you succe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search Machine PC</dc:creator>
  <dc:description/>
  <dc:language>en-US</dc:language>
  <cp:lastModifiedBy>Research Machine PC</cp:lastModifiedBy>
  <cp:revision>0</cp:revision>
  <dc:subject/>
  <dc:title/>
</cp:coreProperties>
</file>