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469-3C16-4AFB-AE9F-AE3E708A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3ED-5172-4D09-85B5-0D8194C3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DB7-43B2-4FD2-94A3-5EA08101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E1F-E515-428A-A17A-F67C74C0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A1C-2160-496C-AFEA-54978065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31A-2558-41AA-A121-46C6857F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5F2-23B6-42B1-968F-39910775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4AA-4BAC-445F-A6AF-EC5C0F67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36E-999F-43DD-A327-5FC5EF68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D80-2576-4BFC-98A6-EEDAA006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520-3FE5-4D75-AD8A-6F58D940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54B-DE2D-4E9E-A817-D0D60843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5370-36C4-4914-90EA-9CD0C4020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2346480"/>
            <a:ext cx="59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90720" y="1085760"/>
            <a:ext cx="1282680" cy="2286000"/>
            <a:chOff x="990720" y="1085760"/>
            <a:chExt cx="1282680" cy="2286000"/>
          </a:xfrm>
        </p:grpSpPr>
        <p:grpSp>
          <p:nvGrpSpPr>
            <p:cNvPr id="43" name=""/>
            <p:cNvGrpSpPr/>
            <p:nvPr/>
          </p:nvGrpSpPr>
          <p:grpSpPr>
            <a:xfrm>
              <a:off x="990720" y="1085760"/>
              <a:ext cx="1280880" cy="2286000"/>
              <a:chOff x="990720" y="1085760"/>
              <a:chExt cx="1280880" cy="2286000"/>
            </a:xfrm>
          </p:grpSpPr>
          <p:sp>
            <p:nvSpPr>
              <p:cNvPr id="44" name=""/>
              <p:cNvSpPr/>
              <p:nvPr/>
            </p:nvSpPr>
            <p:spPr>
              <a:xfrm>
                <a:off x="990720" y="10857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014120" y="11602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636560" y="11602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85800" y="11602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1066680" y="127152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STRENG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41480" y="264168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just before any Combat.  Roll 1D6 and add the result to your Strength for one Combat only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otion%20Pic" descr=""/>
            <p:cNvPicPr/>
            <p:nvPr/>
          </p:nvPicPr>
          <p:blipFill>
            <a:blip r:embed="rId1"/>
            <a:stretch/>
          </p:blipFill>
          <p:spPr>
            <a:xfrm>
              <a:off x="1300320" y="151452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2514600" y="1081080"/>
            <a:ext cx="1282680" cy="2286360"/>
            <a:chOff x="2514600" y="1081080"/>
            <a:chExt cx="1282680" cy="2286360"/>
          </a:xfrm>
        </p:grpSpPr>
        <p:grpSp>
          <p:nvGrpSpPr>
            <p:cNvPr id="52" name=""/>
            <p:cNvGrpSpPr/>
            <p:nvPr/>
          </p:nvGrpSpPr>
          <p:grpSpPr>
            <a:xfrm>
              <a:off x="2514600" y="1081080"/>
              <a:ext cx="1280880" cy="2286000"/>
              <a:chOff x="2514600" y="1081080"/>
              <a:chExt cx="1280880" cy="2286000"/>
            </a:xfrm>
          </p:grpSpPr>
          <p:sp>
            <p:nvSpPr>
              <p:cNvPr id="53" name=""/>
              <p:cNvSpPr/>
              <p:nvPr/>
            </p:nvSpPr>
            <p:spPr>
              <a:xfrm>
                <a:off x="2514600" y="10810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38000" y="11556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60440" y="11556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109680" y="11556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590560" y="126684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DRAGON CONTR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65360" y="2637000"/>
              <a:ext cx="1231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just as you Encounter any Dragon.  You may send the Dragon off to fight any other Character, except in the Dungeon &amp; Timescap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Potion%20Pic" descr=""/>
            <p:cNvPicPr/>
            <p:nvPr/>
          </p:nvPicPr>
          <p:blipFill>
            <a:blip r:embed="rId2"/>
            <a:stretch/>
          </p:blipFill>
          <p:spPr>
            <a:xfrm>
              <a:off x="2824200" y="150984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3962520" y="1081080"/>
            <a:ext cx="1282680" cy="2286000"/>
            <a:chOff x="3962520" y="1081080"/>
            <a:chExt cx="1282680" cy="2286000"/>
          </a:xfrm>
        </p:grpSpPr>
        <p:grpSp>
          <p:nvGrpSpPr>
            <p:cNvPr id="61" name=""/>
            <p:cNvGrpSpPr/>
            <p:nvPr/>
          </p:nvGrpSpPr>
          <p:grpSpPr>
            <a:xfrm>
              <a:off x="3962520" y="1081080"/>
              <a:ext cx="1280880" cy="2286000"/>
              <a:chOff x="3962520" y="1081080"/>
              <a:chExt cx="1280880" cy="2286000"/>
            </a:xfrm>
          </p:grpSpPr>
          <p:sp>
            <p:nvSpPr>
              <p:cNvPr id="62" name=""/>
              <p:cNvSpPr/>
              <p:nvPr/>
            </p:nvSpPr>
            <p:spPr>
              <a:xfrm>
                <a:off x="3962520" y="10810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85920" y="11556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08360" y="11556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557600" y="11556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4038480" y="126684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DU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13280" y="26370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as needed.  It creates a duplicate of your Character which lasts for one full Round of play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Potion%20Pic" descr=""/>
            <p:cNvPicPr/>
            <p:nvPr/>
          </p:nvPicPr>
          <p:blipFill>
            <a:blip r:embed="rId3"/>
            <a:stretch/>
          </p:blipFill>
          <p:spPr>
            <a:xfrm>
              <a:off x="4272120" y="150984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1004760" y="3519360"/>
            <a:ext cx="1282680" cy="2286000"/>
            <a:chOff x="1004760" y="3519360"/>
            <a:chExt cx="1282680" cy="2286000"/>
          </a:xfrm>
        </p:grpSpPr>
        <p:grpSp>
          <p:nvGrpSpPr>
            <p:cNvPr id="70" name=""/>
            <p:cNvGrpSpPr/>
            <p:nvPr/>
          </p:nvGrpSpPr>
          <p:grpSpPr>
            <a:xfrm>
              <a:off x="1004760" y="3519360"/>
              <a:ext cx="1280880" cy="2286000"/>
              <a:chOff x="1004760" y="3519360"/>
              <a:chExt cx="1280880" cy="2286000"/>
            </a:xfrm>
          </p:grpSpPr>
          <p:sp>
            <p:nvSpPr>
              <p:cNvPr id="71" name=""/>
              <p:cNvSpPr/>
              <p:nvPr/>
            </p:nvSpPr>
            <p:spPr>
              <a:xfrm>
                <a:off x="100476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2816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060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59984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080720" y="37051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WISDO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55520" y="507528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just before any Psychic Combat.  Roll 1D6 and add the result to your Craft for one Psychic Combat only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Potion%20Pic" descr=""/>
            <p:cNvPicPr/>
            <p:nvPr/>
          </p:nvPicPr>
          <p:blipFill>
            <a:blip r:embed="rId4"/>
            <a:stretch/>
          </p:blipFill>
          <p:spPr>
            <a:xfrm>
              <a:off x="1314360" y="394812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5448240" y="1076400"/>
            <a:ext cx="1282680" cy="2286000"/>
            <a:chOff x="5448240" y="1076400"/>
            <a:chExt cx="1282680" cy="2286000"/>
          </a:xfrm>
        </p:grpSpPr>
        <p:grpSp>
          <p:nvGrpSpPr>
            <p:cNvPr id="79" name=""/>
            <p:cNvGrpSpPr/>
            <p:nvPr/>
          </p:nvGrpSpPr>
          <p:grpSpPr>
            <a:xfrm>
              <a:off x="5448240" y="1076400"/>
              <a:ext cx="1280880" cy="2286000"/>
              <a:chOff x="5448240" y="1076400"/>
              <a:chExt cx="1280880" cy="2286000"/>
            </a:xfrm>
          </p:grpSpPr>
          <p:sp>
            <p:nvSpPr>
              <p:cNvPr id="80" name=""/>
              <p:cNvSpPr/>
              <p:nvPr/>
            </p:nvSpPr>
            <p:spPr>
              <a:xfrm>
                <a:off x="5448240" y="107640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471640" y="115092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94080" y="115092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43320" y="115092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5524200" y="126216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DISPEL MAG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99000" y="263232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as needed.  It will Dispel any Spell or Scroll cast directly on you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Potion%20Pic" descr=""/>
            <p:cNvPicPr/>
            <p:nvPr/>
          </p:nvPicPr>
          <p:blipFill>
            <a:blip r:embed="rId5"/>
            <a:stretch/>
          </p:blipFill>
          <p:spPr>
            <a:xfrm>
              <a:off x="5757840" y="150516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6934320" y="1081080"/>
            <a:ext cx="1282680" cy="2286000"/>
            <a:chOff x="6934320" y="1081080"/>
            <a:chExt cx="1282680" cy="2286000"/>
          </a:xfrm>
        </p:grpSpPr>
        <p:grpSp>
          <p:nvGrpSpPr>
            <p:cNvPr id="88" name=""/>
            <p:cNvGrpSpPr/>
            <p:nvPr/>
          </p:nvGrpSpPr>
          <p:grpSpPr>
            <a:xfrm>
              <a:off x="6934320" y="1081080"/>
              <a:ext cx="1280880" cy="2286000"/>
              <a:chOff x="6934320" y="1081080"/>
              <a:chExt cx="1280880" cy="2286000"/>
            </a:xfrm>
          </p:grpSpPr>
          <p:sp>
            <p:nvSpPr>
              <p:cNvPr id="89" name=""/>
              <p:cNvSpPr/>
              <p:nvPr/>
            </p:nvSpPr>
            <p:spPr>
              <a:xfrm>
                <a:off x="6934320" y="108108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57720" y="115560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580160" y="115560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9400" y="115560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7010280" y="126684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IMMUN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85080" y="2637000"/>
              <a:ext cx="1231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as needed.  It will allow you to ignore the effect of any Eve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Potion%20Pic" descr=""/>
            <p:cNvPicPr/>
            <p:nvPr/>
          </p:nvPicPr>
          <p:blipFill>
            <a:blip r:embed="rId6"/>
            <a:stretch/>
          </p:blipFill>
          <p:spPr>
            <a:xfrm>
              <a:off x="7243920" y="150984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6948360" y="3519360"/>
            <a:ext cx="1282680" cy="2286000"/>
            <a:chOff x="6948360" y="3519360"/>
            <a:chExt cx="1282680" cy="2286000"/>
          </a:xfrm>
        </p:grpSpPr>
        <p:grpSp>
          <p:nvGrpSpPr>
            <p:cNvPr id="97" name=""/>
            <p:cNvGrpSpPr/>
            <p:nvPr/>
          </p:nvGrpSpPr>
          <p:grpSpPr>
            <a:xfrm>
              <a:off x="6948360" y="3519360"/>
              <a:ext cx="1280880" cy="2286000"/>
              <a:chOff x="6948360" y="3519360"/>
              <a:chExt cx="1280880" cy="2286000"/>
            </a:xfrm>
          </p:grpSpPr>
          <p:sp>
            <p:nvSpPr>
              <p:cNvPr id="98" name=""/>
              <p:cNvSpPr/>
              <p:nvPr/>
            </p:nvSpPr>
            <p:spPr>
              <a:xfrm>
                <a:off x="694836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7176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9420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4344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7024320" y="370512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FOLLOW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99120" y="5075280"/>
              <a:ext cx="123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as needed.  It will enable you to take on the ability of one Follower anywhere in play.  It lasts for one full Round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Potion%20Pic" descr=""/>
            <p:cNvPicPr/>
            <p:nvPr/>
          </p:nvPicPr>
          <p:blipFill>
            <a:blip r:embed="rId7"/>
            <a:stretch/>
          </p:blipFill>
          <p:spPr>
            <a:xfrm>
              <a:off x="7257960" y="394812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5452920" y="3519360"/>
            <a:ext cx="1282680" cy="2286000"/>
            <a:chOff x="5452920" y="3519360"/>
            <a:chExt cx="1282680" cy="2286000"/>
          </a:xfrm>
        </p:grpSpPr>
        <p:grpSp>
          <p:nvGrpSpPr>
            <p:cNvPr id="106" name=""/>
            <p:cNvGrpSpPr/>
            <p:nvPr/>
          </p:nvGrpSpPr>
          <p:grpSpPr>
            <a:xfrm>
              <a:off x="5452920" y="3519360"/>
              <a:ext cx="1280880" cy="2286000"/>
              <a:chOff x="5452920" y="3519360"/>
              <a:chExt cx="1280880" cy="2286000"/>
            </a:xfrm>
          </p:grpSpPr>
          <p:sp>
            <p:nvSpPr>
              <p:cNvPr id="107" name=""/>
              <p:cNvSpPr/>
              <p:nvPr/>
            </p:nvSpPr>
            <p:spPr>
              <a:xfrm>
                <a:off x="545292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7632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9876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4800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528880" y="37051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HEA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03680" y="507528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as needed.  It will Heal you up to your starting quot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Potion%20Pic" descr=""/>
            <p:cNvPicPr/>
            <p:nvPr/>
          </p:nvPicPr>
          <p:blipFill>
            <a:blip r:embed="rId8"/>
            <a:stretch/>
          </p:blipFill>
          <p:spPr>
            <a:xfrm>
              <a:off x="5762520" y="394812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3976560" y="3519360"/>
            <a:ext cx="1282680" cy="2286000"/>
            <a:chOff x="3976560" y="3519360"/>
            <a:chExt cx="1282680" cy="2286000"/>
          </a:xfrm>
        </p:grpSpPr>
        <p:grpSp>
          <p:nvGrpSpPr>
            <p:cNvPr id="115" name=""/>
            <p:cNvGrpSpPr/>
            <p:nvPr/>
          </p:nvGrpSpPr>
          <p:grpSpPr>
            <a:xfrm>
              <a:off x="3976560" y="3519360"/>
              <a:ext cx="1280880" cy="2286000"/>
              <a:chOff x="3976560" y="3519360"/>
              <a:chExt cx="1280880" cy="2286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97656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99996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2240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7164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052520" y="370512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LIV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27320" y="5075280"/>
              <a:ext cx="1231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ou may drink this as needed.  Roll 1D6.  It will give you this many live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Potion%20Pic" descr=""/>
            <p:cNvPicPr/>
            <p:nvPr/>
          </p:nvPicPr>
          <p:blipFill>
            <a:blip r:embed="rId9"/>
            <a:stretch/>
          </p:blipFill>
          <p:spPr>
            <a:xfrm>
              <a:off x="4286160" y="3948120"/>
              <a:ext cx="682560" cy="1066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2529000" y="3519360"/>
            <a:ext cx="1280880" cy="2286000"/>
            <a:chOff x="2529000" y="3519360"/>
            <a:chExt cx="1280880" cy="2286000"/>
          </a:xfrm>
        </p:grpSpPr>
        <p:grpSp>
          <p:nvGrpSpPr>
            <p:cNvPr id="124" name=""/>
            <p:cNvGrpSpPr/>
            <p:nvPr/>
          </p:nvGrpSpPr>
          <p:grpSpPr>
            <a:xfrm>
              <a:off x="2529000" y="3519360"/>
              <a:ext cx="1280880" cy="2286000"/>
              <a:chOff x="2529000" y="3519360"/>
              <a:chExt cx="1280880" cy="2286000"/>
            </a:xfrm>
          </p:grpSpPr>
          <p:sp>
            <p:nvSpPr>
              <p:cNvPr id="125" name=""/>
              <p:cNvSpPr/>
              <p:nvPr/>
            </p:nvSpPr>
            <p:spPr>
              <a:xfrm>
                <a:off x="2529000" y="351936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52400" y="3593880"/>
                <a:ext cx="60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74840" y="359388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PO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24080" y="3593880"/>
                <a:ext cx="918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59092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TION OF SPEL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579760" y="5008680"/>
            <a:ext cx="123192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 may drink this just as another Player casts a Spell.  It will allow you to take the discarded Spell, even if you do not have enough Craft, but you must cast it immedia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otion%20Pic" descr=""/>
          <p:cNvPicPr/>
          <p:nvPr/>
        </p:nvPicPr>
        <p:blipFill>
          <a:blip r:embed="rId10"/>
          <a:stretch/>
        </p:blipFill>
        <p:spPr>
          <a:xfrm>
            <a:off x="2838600" y="3881520"/>
            <a:ext cx="6825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1-11-11T08:34:35Z</dcterms:modified>
  <cp:revision>11</cp:revision>
  <dc:subject/>
  <dc:title>PowerPoint Presentation</dc:title>
</cp:coreProperties>
</file>