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3DC-517E-4C0D-A7AA-289D1DD9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2A2-DDE6-4780-A5D2-7032416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577-A5AF-4712-86F4-97330C6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E11-25D3-454F-BF9F-0FC2FB96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895-FA52-42ED-9D0F-74AE6AA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ABA-9C03-405B-8986-5CB5253E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B65-2C7D-4D3A-9EB9-72BE5E3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1A4-AE37-4C56-8884-5ED0FECA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608-F973-4227-B14E-32BD7BD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FF2-B329-4FF1-A2FE-472FD3A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BA0-75DF-4A15-95B1-8167F50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9B1-C885-4906-95A6-C505435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870C-4FE4-4B0E-B6FF-FC19DE47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80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DLESS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0416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FLO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1948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PEROR OF TH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RA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VALI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rshipD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9903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airshipG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airshipK" descr=""/>
          <p:cNvPicPr/>
          <p:nvPr/>
        </p:nvPicPr>
        <p:blipFill>
          <a:blip r:embed="rId3"/>
          <a:stretch/>
        </p:blipFill>
        <p:spPr>
          <a:xfrm>
            <a:off x="11430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airshipJ" descr=""/>
          <p:cNvPicPr/>
          <p:nvPr/>
        </p:nvPicPr>
        <p:blipFill>
          <a:blip r:embed="rId4"/>
          <a:stretch/>
        </p:blipFill>
        <p:spPr>
          <a:xfrm>
            <a:off x="7039080" y="1219320"/>
            <a:ext cx="1085760" cy="191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airshipI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2:39Z</dcterms:modified>
  <cp:revision>19</cp:revision>
  <dc:subject/>
  <dc:title>PowerPoint Presentation</dc:title>
</cp:coreProperties>
</file>