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C5C-3579-4461-8BD9-3A931B65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257-BD15-4154-8ED1-4F5486F5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BBD-03C8-4311-83DC-2F2703FB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E69-9DE8-4F54-BDE3-4F3A04A4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3AC-32E7-4A5D-9A55-DEE685CD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28C-7896-49B7-B377-1AAB0B4F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593-ACBB-4548-B795-9510266D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8C0-E517-462A-AE9D-EE9A0EE7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106-D9E0-4F84-9BD5-F6A7F3E8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BF-1D5D-44ED-AFF1-F220F28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13B-097B-46B8-AFD4-B9A8848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212-6D7B-4EDD-83A3-0E9E88B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C748-6300-4289-AABF-2FA5FED74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380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DUTCH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irshipA" descr=""/>
          <p:cNvPicPr/>
          <p:nvPr/>
        </p:nvPicPr>
        <p:blipFill>
          <a:blip r:embed="rId1"/>
          <a:stretch/>
        </p:blipFill>
        <p:spPr>
          <a:xfrm>
            <a:off x="2657520" y="1219320"/>
            <a:ext cx="9745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00416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DAN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irshipB" descr=""/>
          <p:cNvPicPr/>
          <p:nvPr/>
        </p:nvPicPr>
        <p:blipFill>
          <a:blip r:embed="rId2"/>
          <a:stretch/>
        </p:blipFill>
        <p:spPr>
          <a:xfrm>
            <a:off x="70866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06668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LOUD S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EA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irshipc" descr=""/>
          <p:cNvPicPr/>
          <p:nvPr/>
        </p:nvPicPr>
        <p:blipFill>
          <a:blip r:embed="rId3"/>
          <a:stretch/>
        </p:blipFill>
        <p:spPr>
          <a:xfrm>
            <a:off x="5562720" y="1219320"/>
            <a:ext cx="99036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airshipE" descr=""/>
          <p:cNvPicPr/>
          <p:nvPr/>
        </p:nvPicPr>
        <p:blipFill>
          <a:blip r:embed="rId4"/>
          <a:stretch/>
        </p:blipFill>
        <p:spPr>
          <a:xfrm>
            <a:off x="11430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airshipH" descr=""/>
          <p:cNvPicPr/>
          <p:nvPr/>
        </p:nvPicPr>
        <p:blipFill>
          <a:blip r:embed="rId5"/>
          <a:stretch/>
        </p:blipFill>
        <p:spPr>
          <a:xfrm>
            <a:off x="41148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morrow</cp:lastModifiedBy>
  <dcterms:modified xsi:type="dcterms:W3CDTF">2003-06-27T18:05:34Z</dcterms:modified>
  <cp:revision>16</cp:revision>
  <dc:subject/>
  <dc:title>PowerPoint Presentation</dc:title>
</cp:coreProperties>
</file>