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D4CB-2103-4884-B1C2-E3896FE8A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1D19-2CBB-4FCC-94F9-84344628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1B2B-0C04-4AF9-94DA-8B4D5448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BEAB-9223-4488-B76F-D9265C1FC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F988-1BAB-4E0C-826D-02291FAA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CF11-D38E-4454-832E-08BB5DC4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4AF9-99ED-4D9D-992B-A7F0C58A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4A54-371A-48E2-B346-211B76C3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F70A-13B4-42D1-AB2B-D354CD28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6CCF-95E8-44EE-8B07-73E19D7D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98DA-AD43-47D5-A78D-0C8AE83C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6380-5C82-492A-B288-F8A2E5CA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8C1F-07DD-431F-ABB1-D175D33C4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1066680"/>
            <a:ext cx="1282680" cy="2286000"/>
            <a:chOff x="990720" y="1066680"/>
            <a:chExt cx="1282680" cy="2286000"/>
          </a:xfrm>
        </p:grpSpPr>
        <p:grpSp>
          <p:nvGrpSpPr>
            <p:cNvPr id="42" name=""/>
            <p:cNvGrpSpPr/>
            <p:nvPr/>
          </p:nvGrpSpPr>
          <p:grpSpPr>
            <a:xfrm>
              <a:off x="990720" y="1066680"/>
              <a:ext cx="1282680" cy="2286000"/>
              <a:chOff x="990720" y="1066680"/>
              <a:chExt cx="1282680" cy="228600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990720" y="1066680"/>
                <a:ext cx="1280880" cy="2286000"/>
                <a:chOff x="990720" y="1066680"/>
                <a:chExt cx="1280880" cy="228600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990720" y="1066680"/>
                  <a:ext cx="128088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1014120" y="1141200"/>
                  <a:ext cx="6094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BJEC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1636560" y="1141200"/>
                  <a:ext cx="60912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BJEC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1585800" y="1141200"/>
                  <a:ext cx="918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" name=""/>
              <p:cNvSpPr/>
              <p:nvPr/>
            </p:nvSpPr>
            <p:spPr>
              <a:xfrm>
                <a:off x="1066680" y="1252440"/>
                <a:ext cx="1143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AIRSHI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041480" y="2498400"/>
                <a:ext cx="123192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You discover an unguarded Airship.  You may take a Dragon Class Airship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333440" y="2346120"/>
                <a:ext cx="5907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1" name="AIRSHIP" descr=""/>
            <p:cNvPicPr/>
            <p:nvPr/>
          </p:nvPicPr>
          <p:blipFill>
            <a:blip r:embed="rId1"/>
            <a:stretch/>
          </p:blipFill>
          <p:spPr>
            <a:xfrm>
              <a:off x="1143000" y="1419120"/>
              <a:ext cx="961920" cy="990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52" name=""/>
          <p:cNvGrpSpPr/>
          <p:nvPr/>
        </p:nvGrpSpPr>
        <p:grpSpPr>
          <a:xfrm>
            <a:off x="2514600" y="1066680"/>
            <a:ext cx="1282680" cy="2286000"/>
            <a:chOff x="2514600" y="1066680"/>
            <a:chExt cx="1282680" cy="2286000"/>
          </a:xfrm>
        </p:grpSpPr>
        <p:grpSp>
          <p:nvGrpSpPr>
            <p:cNvPr id="53" name=""/>
            <p:cNvGrpSpPr/>
            <p:nvPr/>
          </p:nvGrpSpPr>
          <p:grpSpPr>
            <a:xfrm>
              <a:off x="2514600" y="1066680"/>
              <a:ext cx="1282680" cy="2286000"/>
              <a:chOff x="2514600" y="1066680"/>
              <a:chExt cx="1282680" cy="228600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2514600" y="1066680"/>
                <a:ext cx="1280880" cy="2286000"/>
                <a:chOff x="2514600" y="1066680"/>
                <a:chExt cx="1280880" cy="228600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2514600" y="1066680"/>
                  <a:ext cx="128088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2538000" y="1141200"/>
                  <a:ext cx="6094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BJEC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3160440" y="1141200"/>
                  <a:ext cx="60912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BJEC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3109680" y="1141200"/>
                  <a:ext cx="918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" name=""/>
              <p:cNvSpPr/>
              <p:nvPr/>
            </p:nvSpPr>
            <p:spPr>
              <a:xfrm>
                <a:off x="2590560" y="1252440"/>
                <a:ext cx="1143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AIRSHI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565360" y="2498400"/>
                <a:ext cx="123192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You discover an unguarded Airship.  You may take a Wyvern Class Airship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857320" y="2346120"/>
                <a:ext cx="5907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2" name="AIRSHIP" descr=""/>
            <p:cNvPicPr/>
            <p:nvPr/>
          </p:nvPicPr>
          <p:blipFill>
            <a:blip r:embed="rId2"/>
            <a:stretch/>
          </p:blipFill>
          <p:spPr>
            <a:xfrm>
              <a:off x="2666880" y="1419120"/>
              <a:ext cx="961920" cy="990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63" name=""/>
          <p:cNvGrpSpPr/>
          <p:nvPr/>
        </p:nvGrpSpPr>
        <p:grpSpPr>
          <a:xfrm>
            <a:off x="5410080" y="1066680"/>
            <a:ext cx="1282680" cy="2286000"/>
            <a:chOff x="5410080" y="1066680"/>
            <a:chExt cx="1282680" cy="2286000"/>
          </a:xfrm>
        </p:grpSpPr>
        <p:grpSp>
          <p:nvGrpSpPr>
            <p:cNvPr id="64" name=""/>
            <p:cNvGrpSpPr/>
            <p:nvPr/>
          </p:nvGrpSpPr>
          <p:grpSpPr>
            <a:xfrm>
              <a:off x="5410080" y="1066680"/>
              <a:ext cx="1282680" cy="2286000"/>
              <a:chOff x="5410080" y="1066680"/>
              <a:chExt cx="1282680" cy="228600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5410080" y="1066680"/>
                <a:ext cx="1280880" cy="2286000"/>
                <a:chOff x="5410080" y="1066680"/>
                <a:chExt cx="1280880" cy="228600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5410080" y="1066680"/>
                  <a:ext cx="128088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5433480" y="1141200"/>
                  <a:ext cx="6094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BJEC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055920" y="1141200"/>
                  <a:ext cx="60912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BJEC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005160" y="1141200"/>
                  <a:ext cx="918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" name=""/>
              <p:cNvSpPr/>
              <p:nvPr/>
            </p:nvSpPr>
            <p:spPr>
              <a:xfrm>
                <a:off x="5486040" y="1252440"/>
                <a:ext cx="1143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AIRSHI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460840" y="2498400"/>
                <a:ext cx="123192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You discover an unguarded Airship.  You may take a Eagle Class Airship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2800" y="2346120"/>
                <a:ext cx="5907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3" name="AIRSHIP" descr=""/>
            <p:cNvPicPr/>
            <p:nvPr/>
          </p:nvPicPr>
          <p:blipFill>
            <a:blip r:embed="rId3"/>
            <a:stretch/>
          </p:blipFill>
          <p:spPr>
            <a:xfrm>
              <a:off x="5562360" y="1419120"/>
              <a:ext cx="961920" cy="990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74" name=""/>
          <p:cNvGrpSpPr/>
          <p:nvPr/>
        </p:nvGrpSpPr>
        <p:grpSpPr>
          <a:xfrm>
            <a:off x="3962520" y="1066680"/>
            <a:ext cx="1282680" cy="2286000"/>
            <a:chOff x="3962520" y="1066680"/>
            <a:chExt cx="1282680" cy="2286000"/>
          </a:xfrm>
        </p:grpSpPr>
        <p:grpSp>
          <p:nvGrpSpPr>
            <p:cNvPr id="75" name=""/>
            <p:cNvGrpSpPr/>
            <p:nvPr/>
          </p:nvGrpSpPr>
          <p:grpSpPr>
            <a:xfrm>
              <a:off x="3962520" y="1066680"/>
              <a:ext cx="1282680" cy="2286000"/>
              <a:chOff x="3962520" y="1066680"/>
              <a:chExt cx="1282680" cy="228600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3962520" y="1066680"/>
                <a:ext cx="1280880" cy="2286000"/>
                <a:chOff x="3962520" y="1066680"/>
                <a:chExt cx="1280880" cy="228600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3962520" y="1066680"/>
                  <a:ext cx="128088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985920" y="1141200"/>
                  <a:ext cx="6094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BJEC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608360" y="1141200"/>
                  <a:ext cx="60912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BJEC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557600" y="1141200"/>
                  <a:ext cx="918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" name=""/>
              <p:cNvSpPr/>
              <p:nvPr/>
            </p:nvSpPr>
            <p:spPr>
              <a:xfrm>
                <a:off x="4038480" y="1252440"/>
                <a:ext cx="1143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AIRSHI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013280" y="2498400"/>
                <a:ext cx="123192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You discover an unguarded Airship.  You may take a Condor Class Airship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305240" y="2346120"/>
                <a:ext cx="5907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4" name="AIRSHIP" descr=""/>
            <p:cNvPicPr/>
            <p:nvPr/>
          </p:nvPicPr>
          <p:blipFill>
            <a:blip r:embed="rId4"/>
            <a:stretch/>
          </p:blipFill>
          <p:spPr>
            <a:xfrm>
              <a:off x="4114800" y="1419120"/>
              <a:ext cx="961920" cy="990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85" name=""/>
          <p:cNvGrpSpPr/>
          <p:nvPr/>
        </p:nvGrpSpPr>
        <p:grpSpPr>
          <a:xfrm>
            <a:off x="6934320" y="1066680"/>
            <a:ext cx="1282680" cy="2286000"/>
            <a:chOff x="6934320" y="1066680"/>
            <a:chExt cx="1282680" cy="2286000"/>
          </a:xfrm>
        </p:grpSpPr>
        <p:grpSp>
          <p:nvGrpSpPr>
            <p:cNvPr id="86" name=""/>
            <p:cNvGrpSpPr/>
            <p:nvPr/>
          </p:nvGrpSpPr>
          <p:grpSpPr>
            <a:xfrm>
              <a:off x="6934320" y="1066680"/>
              <a:ext cx="1282680" cy="2286000"/>
              <a:chOff x="6934320" y="1066680"/>
              <a:chExt cx="1282680" cy="228600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6934320" y="1066680"/>
                <a:ext cx="1280880" cy="2286000"/>
                <a:chOff x="6934320" y="1066680"/>
                <a:chExt cx="1280880" cy="228600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6934320" y="1066680"/>
                  <a:ext cx="128088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957720" y="1141200"/>
                  <a:ext cx="6094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BJEC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580160" y="1141200"/>
                  <a:ext cx="60912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BJEC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7529400" y="1141200"/>
                  <a:ext cx="918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" name=""/>
              <p:cNvSpPr/>
              <p:nvPr/>
            </p:nvSpPr>
            <p:spPr>
              <a:xfrm>
                <a:off x="7010280" y="1252440"/>
                <a:ext cx="1143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AIRSHI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85080" y="2498400"/>
                <a:ext cx="123192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You discover an unguarded Airship.  You may take a Falcon Class Airship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277040" y="2346120"/>
                <a:ext cx="5907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5" name="AIRSHIP" descr=""/>
            <p:cNvPicPr/>
            <p:nvPr/>
          </p:nvPicPr>
          <p:blipFill>
            <a:blip r:embed="rId5"/>
            <a:stretch/>
          </p:blipFill>
          <p:spPr>
            <a:xfrm>
              <a:off x="7086600" y="1419120"/>
              <a:ext cx="961920" cy="990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96" name=""/>
          <p:cNvGrpSpPr/>
          <p:nvPr/>
        </p:nvGrpSpPr>
        <p:grpSpPr>
          <a:xfrm>
            <a:off x="990720" y="3505320"/>
            <a:ext cx="1282680" cy="2286000"/>
            <a:chOff x="990720" y="3505320"/>
            <a:chExt cx="1282680" cy="2286000"/>
          </a:xfrm>
        </p:grpSpPr>
        <p:grpSp>
          <p:nvGrpSpPr>
            <p:cNvPr id="97" name=""/>
            <p:cNvGrpSpPr/>
            <p:nvPr/>
          </p:nvGrpSpPr>
          <p:grpSpPr>
            <a:xfrm>
              <a:off x="990720" y="3505320"/>
              <a:ext cx="1282680" cy="2286000"/>
              <a:chOff x="990720" y="3505320"/>
              <a:chExt cx="1282680" cy="22860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990720" y="3505320"/>
                <a:ext cx="1280880" cy="2286000"/>
                <a:chOff x="990720" y="3505320"/>
                <a:chExt cx="1280880" cy="22860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990720" y="3505320"/>
                  <a:ext cx="128088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014120" y="3579840"/>
                  <a:ext cx="6094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BJEC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636560" y="3579840"/>
                  <a:ext cx="60912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BJEC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585800" y="3579840"/>
                  <a:ext cx="918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>
                <a:off x="1066680" y="3691080"/>
                <a:ext cx="1143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AIRSHI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041480" y="4937040"/>
                <a:ext cx="1231920" cy="60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You discover an Airship.  It is guarded by a Strength 9 Band of Sailors.  If you defeat them you may take a Dragon Class Airship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333440" y="4784760"/>
                <a:ext cx="5907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6" name="AIRSHIP" descr=""/>
            <p:cNvPicPr/>
            <p:nvPr/>
          </p:nvPicPr>
          <p:blipFill>
            <a:blip r:embed="rId6"/>
            <a:stretch/>
          </p:blipFill>
          <p:spPr>
            <a:xfrm>
              <a:off x="1143000" y="3857760"/>
              <a:ext cx="961920" cy="990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07" name=""/>
          <p:cNvGrpSpPr/>
          <p:nvPr/>
        </p:nvGrpSpPr>
        <p:grpSpPr>
          <a:xfrm>
            <a:off x="2514600" y="3505320"/>
            <a:ext cx="1282680" cy="2286000"/>
            <a:chOff x="2514600" y="3505320"/>
            <a:chExt cx="1282680" cy="2286000"/>
          </a:xfrm>
        </p:grpSpPr>
        <p:grpSp>
          <p:nvGrpSpPr>
            <p:cNvPr id="108" name=""/>
            <p:cNvGrpSpPr/>
            <p:nvPr/>
          </p:nvGrpSpPr>
          <p:grpSpPr>
            <a:xfrm>
              <a:off x="2514600" y="3505320"/>
              <a:ext cx="1282680" cy="2286000"/>
              <a:chOff x="2514600" y="3505320"/>
              <a:chExt cx="1282680" cy="228600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2514600" y="3505320"/>
                <a:ext cx="1280880" cy="2286000"/>
                <a:chOff x="2514600" y="3505320"/>
                <a:chExt cx="1280880" cy="22860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2514600" y="3505320"/>
                  <a:ext cx="128088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538000" y="3579840"/>
                  <a:ext cx="6094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BJEC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160440" y="3579840"/>
                  <a:ext cx="60912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BJEC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109680" y="3579840"/>
                  <a:ext cx="918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" name=""/>
              <p:cNvSpPr/>
              <p:nvPr/>
            </p:nvSpPr>
            <p:spPr>
              <a:xfrm>
                <a:off x="2590560" y="3691080"/>
                <a:ext cx="1143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AIRSHI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565360" y="4937040"/>
                <a:ext cx="1231920" cy="60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You discover an Airship.  It is guarded by a Strength 8 Band of Sailors.  If you defeat them you may take a Wyvern Class Airship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857320" y="4784760"/>
                <a:ext cx="5907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17" name="AIRSHIP" descr=""/>
            <p:cNvPicPr/>
            <p:nvPr/>
          </p:nvPicPr>
          <p:blipFill>
            <a:blip r:embed="rId7"/>
            <a:stretch/>
          </p:blipFill>
          <p:spPr>
            <a:xfrm>
              <a:off x="2666880" y="3857760"/>
              <a:ext cx="961920" cy="990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5410080" y="3505320"/>
            <a:ext cx="1282680" cy="2286000"/>
            <a:chOff x="5410080" y="3505320"/>
            <a:chExt cx="1282680" cy="2286000"/>
          </a:xfrm>
        </p:grpSpPr>
        <p:grpSp>
          <p:nvGrpSpPr>
            <p:cNvPr id="119" name=""/>
            <p:cNvGrpSpPr/>
            <p:nvPr/>
          </p:nvGrpSpPr>
          <p:grpSpPr>
            <a:xfrm>
              <a:off x="5410080" y="3505320"/>
              <a:ext cx="1282680" cy="2286000"/>
              <a:chOff x="5410080" y="3505320"/>
              <a:chExt cx="1282680" cy="228600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5410080" y="3505320"/>
                <a:ext cx="1280880" cy="2286000"/>
                <a:chOff x="5410080" y="3505320"/>
                <a:chExt cx="1280880" cy="22860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5410080" y="3505320"/>
                  <a:ext cx="128088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433480" y="3579840"/>
                  <a:ext cx="6094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BJEC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055920" y="3579840"/>
                  <a:ext cx="60912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BJEC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005160" y="3579840"/>
                  <a:ext cx="918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" name=""/>
              <p:cNvSpPr/>
              <p:nvPr/>
            </p:nvSpPr>
            <p:spPr>
              <a:xfrm>
                <a:off x="5486040" y="3691080"/>
                <a:ext cx="1143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AIRSHI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460840" y="4937040"/>
                <a:ext cx="1231920" cy="60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You discover an Airship.  It is guarded by a Strength 6 Band of Sailors.  If you defeat them you may take a Eagle Class Airship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752800" y="4784760"/>
                <a:ext cx="5907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28" name="AIRSHIP" descr=""/>
            <p:cNvPicPr/>
            <p:nvPr/>
          </p:nvPicPr>
          <p:blipFill>
            <a:blip r:embed="rId8"/>
            <a:stretch/>
          </p:blipFill>
          <p:spPr>
            <a:xfrm>
              <a:off x="5562360" y="3857760"/>
              <a:ext cx="961920" cy="990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29" name=""/>
          <p:cNvGrpSpPr/>
          <p:nvPr/>
        </p:nvGrpSpPr>
        <p:grpSpPr>
          <a:xfrm>
            <a:off x="3962520" y="3505320"/>
            <a:ext cx="1282680" cy="2286000"/>
            <a:chOff x="3962520" y="3505320"/>
            <a:chExt cx="1282680" cy="2286000"/>
          </a:xfrm>
        </p:grpSpPr>
        <p:grpSp>
          <p:nvGrpSpPr>
            <p:cNvPr id="130" name=""/>
            <p:cNvGrpSpPr/>
            <p:nvPr/>
          </p:nvGrpSpPr>
          <p:grpSpPr>
            <a:xfrm>
              <a:off x="3962520" y="3505320"/>
              <a:ext cx="1282680" cy="2286000"/>
              <a:chOff x="3962520" y="3505320"/>
              <a:chExt cx="1282680" cy="228600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3962520" y="3505320"/>
                <a:ext cx="1280880" cy="2286000"/>
                <a:chOff x="3962520" y="3505320"/>
                <a:chExt cx="1280880" cy="22860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3962520" y="3505320"/>
                  <a:ext cx="128088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985920" y="3579840"/>
                  <a:ext cx="6094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BJEC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608360" y="3579840"/>
                  <a:ext cx="60912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BJEC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557600" y="3579840"/>
                  <a:ext cx="918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" name=""/>
              <p:cNvSpPr/>
              <p:nvPr/>
            </p:nvSpPr>
            <p:spPr>
              <a:xfrm>
                <a:off x="4038480" y="3691080"/>
                <a:ext cx="1143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AIRSHI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013280" y="4937040"/>
                <a:ext cx="1231920" cy="60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You discover an Airship.  It is guarded by a Strength 7 Band of Sailors.  If you defeat them you may take a Condor Class Airship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305240" y="4784760"/>
                <a:ext cx="5907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9" name="AIRSHIP" descr=""/>
            <p:cNvPicPr/>
            <p:nvPr/>
          </p:nvPicPr>
          <p:blipFill>
            <a:blip r:embed="rId9"/>
            <a:stretch/>
          </p:blipFill>
          <p:spPr>
            <a:xfrm>
              <a:off x="4114800" y="3857760"/>
              <a:ext cx="961920" cy="990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40" name=""/>
          <p:cNvGrpSpPr/>
          <p:nvPr/>
        </p:nvGrpSpPr>
        <p:grpSpPr>
          <a:xfrm>
            <a:off x="6934320" y="3505320"/>
            <a:ext cx="1282680" cy="2286000"/>
            <a:chOff x="6934320" y="3505320"/>
            <a:chExt cx="1282680" cy="2286000"/>
          </a:xfrm>
        </p:grpSpPr>
        <p:grpSp>
          <p:nvGrpSpPr>
            <p:cNvPr id="141" name=""/>
            <p:cNvGrpSpPr/>
            <p:nvPr/>
          </p:nvGrpSpPr>
          <p:grpSpPr>
            <a:xfrm>
              <a:off x="6934320" y="3505320"/>
              <a:ext cx="1282680" cy="2286000"/>
              <a:chOff x="6934320" y="3505320"/>
              <a:chExt cx="1282680" cy="228600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6934320" y="3505320"/>
                <a:ext cx="1280880" cy="2286000"/>
                <a:chOff x="6934320" y="3505320"/>
                <a:chExt cx="1280880" cy="228600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6934320" y="3505320"/>
                  <a:ext cx="128088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957720" y="3579840"/>
                  <a:ext cx="6094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BJEC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580160" y="3579840"/>
                  <a:ext cx="60912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BJEC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529400" y="3579840"/>
                  <a:ext cx="918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7010280" y="3691080"/>
                <a:ext cx="1143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AIRSHI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85080" y="4937040"/>
                <a:ext cx="1231920" cy="60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You discover an Airship.  It is guarded by a Strength 5 Band of Sailors.  If you defeat them you may take a Falcon Class Airship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77040" y="4784760"/>
                <a:ext cx="5907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0" name="AIRSHIP" descr=""/>
            <p:cNvPicPr/>
            <p:nvPr/>
          </p:nvPicPr>
          <p:blipFill>
            <a:blip r:embed="rId10"/>
            <a:stretch/>
          </p:blipFill>
          <p:spPr>
            <a:xfrm>
              <a:off x="7086600" y="3857760"/>
              <a:ext cx="961920" cy="990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3-06-29T13:41:17Z</dcterms:modified>
  <cp:revision>13</cp:revision>
  <dc:subject/>
  <dc:title>PowerPoint Presentation</dc:title>
</cp:coreProperties>
</file>