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E5C-9822-4712-B527-5CC58620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922-ACF7-4C8B-AFD8-5CA7C30D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B9A-B4A3-4888-A05C-0E1C6278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77A-293D-4D1D-8000-7032F376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2E6-6B57-4868-9556-C38B4EC5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0841-7860-4EA9-BFCF-BF81C45C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AD5-6CA5-4CE3-AE07-0028CE19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A37-8B25-4C6D-98D8-1BF88313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6A1-ED27-4D08-BD6D-2D90C3FD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F68-15A5-4F7E-9015-EEA8DFDA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5D7-B68E-4141-A039-B7F6B2EB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644-21BC-4D8A-BE39-DE0A679A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F9CD-542E-452B-B119-84569C85F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0"/>
            <a:ext cx="7238880" cy="5800680"/>
            <a:chOff x="990720" y="0"/>
            <a:chExt cx="7238880" cy="5800680"/>
          </a:xfrm>
        </p:grpSpPr>
        <p:grpSp>
          <p:nvGrpSpPr>
            <p:cNvPr id="42" name=""/>
            <p:cNvGrpSpPr/>
            <p:nvPr/>
          </p:nvGrpSpPr>
          <p:grpSpPr>
            <a:xfrm>
              <a:off x="990720" y="1066680"/>
              <a:ext cx="7238880" cy="4734000"/>
              <a:chOff x="990720" y="1066680"/>
              <a:chExt cx="7238880" cy="4734000"/>
            </a:xfrm>
          </p:grpSpPr>
          <p:pic>
            <p:nvPicPr>
              <p:cNvPr id="43" name="Adventure%20Card%20Back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1066680"/>
                <a:ext cx="1295280" cy="229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Adventure%20Card%20Back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3505320"/>
                <a:ext cx="1295280" cy="22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Adventure%20Card%20Back" descr=""/>
              <p:cNvPicPr/>
              <p:nvPr/>
            </p:nvPicPr>
            <p:blipFill>
              <a:blip r:embed="rId3"/>
              <a:stretch/>
            </p:blipFill>
            <p:spPr>
              <a:xfrm>
                <a:off x="2514600" y="1066680"/>
                <a:ext cx="1295280" cy="229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Adventure%20Card%20Back" descr=""/>
              <p:cNvPicPr/>
              <p:nvPr/>
            </p:nvPicPr>
            <p:blipFill>
              <a:blip r:embed="rId4"/>
              <a:stretch/>
            </p:blipFill>
            <p:spPr>
              <a:xfrm>
                <a:off x="2514600" y="3505320"/>
                <a:ext cx="1295280" cy="22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Adventure%20Card%20Back" descr=""/>
              <p:cNvPicPr/>
              <p:nvPr/>
            </p:nvPicPr>
            <p:blipFill>
              <a:blip r:embed="rId5"/>
              <a:stretch/>
            </p:blipFill>
            <p:spPr>
              <a:xfrm>
                <a:off x="3962520" y="3505320"/>
                <a:ext cx="1295280" cy="22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Adventure%20Card%20Back" descr=""/>
              <p:cNvPicPr/>
              <p:nvPr/>
            </p:nvPicPr>
            <p:blipFill>
              <a:blip r:embed="rId6"/>
              <a:stretch/>
            </p:blipFill>
            <p:spPr>
              <a:xfrm>
                <a:off x="5438880" y="3505320"/>
                <a:ext cx="1295280" cy="22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Adventure%20Card%20Back" descr=""/>
              <p:cNvPicPr/>
              <p:nvPr/>
            </p:nvPicPr>
            <p:blipFill>
              <a:blip r:embed="rId7"/>
              <a:stretch/>
            </p:blipFill>
            <p:spPr>
              <a:xfrm>
                <a:off x="6934320" y="3505320"/>
                <a:ext cx="1295280" cy="22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Adventure%20Card%20Back" descr=""/>
              <p:cNvPicPr/>
              <p:nvPr/>
            </p:nvPicPr>
            <p:blipFill>
              <a:blip r:embed="rId8"/>
              <a:stretch/>
            </p:blipFill>
            <p:spPr>
              <a:xfrm>
                <a:off x="3962520" y="1066680"/>
                <a:ext cx="1295280" cy="229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Adventure%20Card%20Back" descr=""/>
              <p:cNvPicPr/>
              <p:nvPr/>
            </p:nvPicPr>
            <p:blipFill>
              <a:blip r:embed="rId9"/>
              <a:stretch/>
            </p:blipFill>
            <p:spPr>
              <a:xfrm>
                <a:off x="5438880" y="1066680"/>
                <a:ext cx="1295280" cy="229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Adventure%20Card%20Back" descr=""/>
              <p:cNvPicPr/>
              <p:nvPr/>
            </p:nvPicPr>
            <p:blipFill>
              <a:blip r:embed="rId10"/>
              <a:stretch/>
            </p:blipFill>
            <p:spPr>
              <a:xfrm>
                <a:off x="6934320" y="1066680"/>
                <a:ext cx="1295280" cy="2295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" name=""/>
            <p:cNvSpPr/>
            <p:nvPr/>
          </p:nvSpPr>
          <p:spPr>
            <a:xfrm>
              <a:off x="1981080" y="0"/>
              <a:ext cx="38124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3:47:18Z</dcterms:modified>
  <cp:revision>8</cp:revision>
  <dc:subject/>
  <dc:title>PowerPoint Presentation</dc:title>
</cp:coreProperties>
</file>