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2033-D213-4BC2-AB24-55B4EF389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2555-DC2D-4034-A824-530F3FB6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37B4-7C18-498B-9B71-25D00030F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89E6-3704-4E04-BB2D-481CC6A7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B091-9C71-41A8-A8A9-8EBA41FB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1B9B-EF3A-4A1A-BB1F-E644C710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72CF-85BF-4FD9-8655-145703CA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2C05-46F5-428B-850A-98416C23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CAEF-ACC4-4DE2-B529-CEA6AB10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7FE3-2226-4FB8-A708-8F770799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BFFB-A11B-48A8-A7C4-789E9CCD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405C-D7C3-4670-ACEF-F80BA7DA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831C-CBD3-4A4B-A0BA-03C0DC8F4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0800000">
            <a:off x="2593440" y="353556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NDLESS FLIGH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33440" y="2346480"/>
            <a:ext cx="59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7003800" y="353556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WIND FLO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1066320" y="3422880"/>
            <a:ext cx="11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MPEROR OF THE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4038120" y="353556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KY RAI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0800000">
            <a:off x="5486040" y="353556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THE VALI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1066680"/>
            <a:ext cx="129528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1066680"/>
            <a:ext cx="129528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1066680"/>
            <a:ext cx="129528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1066680"/>
            <a:ext cx="129564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066680"/>
            <a:ext cx="129528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143000" y="3733920"/>
          <a:ext cx="99216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733920"/>
                    <a:ext cx="992160" cy="1904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2666880" y="3733920"/>
          <a:ext cx="992160" cy="190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733920"/>
                    <a:ext cx="992160" cy="1904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113360" y="3733920"/>
          <a:ext cx="992160" cy="19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3360" y="3733920"/>
                    <a:ext cx="992160" cy="1904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5560920" y="3733920"/>
          <a:ext cx="992160" cy="190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0920" y="3733920"/>
                    <a:ext cx="992160" cy="1904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7086600" y="3733920"/>
          <a:ext cx="1042920" cy="1904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86600" y="3733920"/>
                    <a:ext cx="1042920" cy="1904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3-06-29T13:21:47Z</dcterms:modified>
  <cp:revision>20</cp:revision>
  <dc:subject/>
  <dc:title>PowerPoint Presentation</dc:title>
</cp:coreProperties>
</file>