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DD9-C4E2-4AFA-8958-3EC70FCD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997-AC58-443B-94C1-32D30A8E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57E-5970-4AD5-A1F9-90581C6D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3EE-16C6-40BC-A2F2-E3E9A457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F63-83C7-4A0A-AEDC-4425ADA0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B5D-6A17-4F3A-8C05-C06027AB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1FA-2131-467C-B6D1-1A9F95A6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449-184A-44FD-858C-679E04C0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C1E-FBFF-474F-8E1E-EBF568AE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B8F-D8F1-4843-BE49-F27C407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9CE-29DB-49DF-AA7A-08ADD4E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FD0-115A-4C8F-9B88-EB41A6F4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6B44-6716-4766-9C4D-71552901A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2593440" y="35287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DUTCH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7003800" y="35287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IND DAN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1066320" y="353880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KY 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4038120" y="35287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LOUD S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5486040" y="35287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EA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1066680"/>
            <a:ext cx="12956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3733920"/>
          <a:ext cx="99216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85960" y="3733920"/>
          <a:ext cx="97020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5960" y="3733920"/>
                    <a:ext cx="97020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133880" y="3705120"/>
          <a:ext cx="992160" cy="19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3880" y="3705120"/>
                    <a:ext cx="992160" cy="190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560920" y="3733920"/>
          <a:ext cx="992160" cy="190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092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085160" y="3733920"/>
          <a:ext cx="99216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516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morrow</cp:lastModifiedBy>
  <dcterms:modified xsi:type="dcterms:W3CDTF">2003-06-27T18:12:15Z</dcterms:modified>
  <cp:revision>17</cp:revision>
  <dc:subject/>
  <dc:title>PowerPoint Presentation</dc:title>
</cp:coreProperties>
</file>