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120D-E1D0-42C9-8EAE-0136A4A52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81F9-C646-42A7-8CE1-70C7038AE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0777-664A-46DA-8F3C-464A08B8B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891E-B7F0-4ABF-B5E5-76A2551C8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C84B-0A9A-44DC-8003-8026DC80D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9C8F-36C6-493B-8931-4495BA954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684B-70DC-4777-ACEF-ABA638573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307B-BAE4-4DB5-9E05-E053654D4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A6E5-15B9-4AD1-8E6A-3B012E603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1403-8827-417B-8FAB-40D4E7C52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346E-63B7-4526-B75A-40648A260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2CAA-A2D8-48A1-AA68-50AB87094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CEF3F-93CF-4687-83CB-0526F7FB49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.png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.png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.png"/><Relationship Id="rId2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990720" y="1066680"/>
          <a:ext cx="1272960" cy="22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066680"/>
                    <a:ext cx="127296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" name=""/>
          <p:cNvGraphicFramePr/>
          <p:nvPr/>
        </p:nvGraphicFramePr>
        <p:xfrm>
          <a:off x="2514600" y="3505320"/>
          <a:ext cx="1273320" cy="228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14600" y="3505320"/>
                    <a:ext cx="127332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" name=""/>
          <p:cNvGraphicFramePr/>
          <p:nvPr/>
        </p:nvGraphicFramePr>
        <p:xfrm>
          <a:off x="2514600" y="1066680"/>
          <a:ext cx="1273320" cy="2286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14600" y="1066680"/>
                    <a:ext cx="127332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"/>
          <p:cNvGraphicFramePr/>
          <p:nvPr/>
        </p:nvGraphicFramePr>
        <p:xfrm>
          <a:off x="3962520" y="1066680"/>
          <a:ext cx="1272960" cy="2286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962520" y="1066680"/>
                    <a:ext cx="127296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" name=""/>
          <p:cNvGraphicFramePr/>
          <p:nvPr/>
        </p:nvGraphicFramePr>
        <p:xfrm>
          <a:off x="3962520" y="3505320"/>
          <a:ext cx="1272960" cy="2286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962520" y="3505320"/>
                    <a:ext cx="127296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5410080" y="3505320"/>
          <a:ext cx="1273320" cy="22860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410080" y="3505320"/>
                    <a:ext cx="127332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5410080" y="1066680"/>
          <a:ext cx="1273320" cy="22860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410080" y="1066680"/>
                    <a:ext cx="127332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6934320" y="1066680"/>
          <a:ext cx="1272960" cy="2286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934320" y="1066680"/>
                    <a:ext cx="127296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6934320" y="3505320"/>
          <a:ext cx="1272960" cy="22860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934320" y="3505320"/>
                    <a:ext cx="127296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990720" y="3505320"/>
          <a:ext cx="1272960" cy="22860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990720" y="3505320"/>
                    <a:ext cx="127296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30T21:14:26Z</dcterms:created>
  <dc:creator>Paul &amp; Rosanne Morrow</dc:creator>
  <dc:description/>
  <dc:language>en-US</dc:language>
  <cp:lastModifiedBy>Paul &amp; Rosanne Morrow</cp:lastModifiedBy>
  <dcterms:modified xsi:type="dcterms:W3CDTF">2003-06-29T13:19:30Z</dcterms:modified>
  <cp:revision>12</cp:revision>
  <dc:subject/>
  <dc:title>PowerPoint Presentation</dc:title>
</cp:coreProperties>
</file>